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DF7-5439-4290-BDF8-E7DF92B2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626-2D35-4E60-91C4-40EE5670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60A-4010-4E61-A4AC-4C8F564A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5E2-B181-40FA-8091-B24E44B5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3A1D-6E24-4690-9936-917C7F9F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69A-4222-41B1-982F-F4279A44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5B2-AB49-4445-BA31-6E0A4CF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7D8-AA11-4E9B-BB03-F9EC5FD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6C82-87CE-4F9A-8B75-0BF3FAE8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8C9-57E3-4DB1-8082-277555B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35E-FC84-4684-9FBA-9D73B9A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207-5D05-47DD-9C1A-77736839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2204-2B65-40FC-B05D-497DDAA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406-D602-48F4-81F6-35E8D39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0EE5-F062-4B3B-A37D-B38BEF2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EB06-F350-4E94-8C67-E2AFDEA9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30A6-5284-45AC-B102-CE62D9FF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E6A-BA39-431A-957B-96140D22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EF-E3A1-41C1-BCB3-983F2346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442-76B3-4315-B0B8-A60DE23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A78-C4C8-4CFE-85B3-D8168C96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EA4-A81E-40AC-AD79-8528E699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B73-F894-4219-8091-E1B1DF9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B1F-EF6C-492D-8C99-68F4E04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A7B4-03DA-42DA-B193-5AA317CE4A5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D8B-0E44-4C77-A9B3-3CCC109398B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Man%20Laugh" TargetMode="External"/><Relationship Id="rId4" Type="http://schemas.microsoft.com/office/2007/relationships/media" Target="file:///tmp/home/.config/libreoffice/4/user/gallery/Man%20Laugh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gnizing Emergenc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76920" y="5790960"/>
            <a:ext cx="396216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276360" cy="194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7816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2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gnizing Emergenc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33560" y="4266720"/>
            <a:ext cx="510516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ing, Sight and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2133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earing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5486040"/>
            <a:ext cx="5715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1621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790960" y="10666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93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2133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earing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nds of humans that are not normal like screaming or y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reeching tires, braking glass, banging metal or sudden changes in machin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1523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igh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7760" y="5257800"/>
            <a:ext cx="571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2860920" cy="189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867280" y="1066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7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1523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igh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clutching their chest, odd facial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e or uncontrollable fire, downed wires or a car in an abnormal lo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1524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7760" y="5562360"/>
            <a:ext cx="57150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31156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13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1524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amiliar odor that is very strong- For example the smell chlorine but there is no pool in the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42670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i="1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3429000"/>
            <a:ext cx="57150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8Z</dcterms:created>
  <dc:creator>Kraybill Campus LMS</dc:creator>
  <dc:description/>
  <dc:language>en-US</dc:language>
  <cp:lastModifiedBy>Kraybill Campus LMS</cp:lastModifiedBy>
  <dcterms:modified xsi:type="dcterms:W3CDTF">2011-05-24T13:05:50Z</dcterms:modified>
  <cp:revision>8</cp:revision>
  <dc:subject/>
  <dc:title>Recognizing Emergencies</dc:title>
</cp:coreProperties>
</file>